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6F27-5B08-4289-8A94-A571BAB3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63EB-8322-4882-B484-5C06D25B44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61FD-C9B6-4162-A9D1-2D7E259EF8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D733-7295-4516-ADA7-B39E1B6B3F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9843-92E9-40FB-BC64-C18FF5868B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1A56-1172-467C-8FCB-16D4309849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68B9-D039-471C-B89C-8B8CDB9740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6AD7-E018-42AC-906C-2046E40419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BD17-6850-40E7-818C-EC3C04199A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00D8-53D6-4BD3-B0BD-06412CBC5D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AE46-3E0A-4743-B63A-888B9F7332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743-172A-47CB-B54F-43567870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D4A-8523-4076-BEDB-934A394E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451-4DD3-4663-87AC-2D43DDF8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015-93BE-4434-BB13-BB331488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6659-02D3-4DDB-BB7A-7A34BEDB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1559-842F-4B53-81FD-162D825B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37BE-52AD-4F97-8905-682B43C5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EA54-600B-46D1-B098-AE8239F0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8C87-C346-4775-8874-ED628032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9C75-0530-4BCA-A212-D3E86B93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6F36-66DA-4684-8C12-7F1AA799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55D-06EB-4C33-B30C-47FE8C8B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2BDB-32D9-4B20-AC85-092548F0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A3AE-D97A-4BB8-A0DA-73577DD8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866F-B01E-4E2C-8DDB-9199761F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43E6-181D-4EA5-84D7-0CE61262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89DA-1717-413B-B622-4F6EC7C8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84B-5637-4EFD-B845-E84207A2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3AB-2911-4743-8469-E71CED39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508-12C1-407F-8C65-CE23E779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4EA-53B8-48BB-9640-B2DF5513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718-875F-4887-94AF-50CB3FEF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C94-28B8-40BC-A4D1-9C135CF3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1F3-A6CC-464F-A7A8-5F2F94A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3D3E-9F92-4295-8A74-601173A5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9FCC-D4C9-42DF-B3A4-5E78A3F663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xecutive Branc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 if nee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 promptly at the bell. Be Rea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What position is the head of law enforcement in the USA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441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0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TERRORISM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3160800" y="2971800"/>
            <a:ext cx="27543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ich Article of the Constitution created the Executive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541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Name the 3 qualifications to be Presid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819520" y="32004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is the MAXIMUM amount of years someone can serve as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819520" y="3403440"/>
            <a:ext cx="313668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position is third in line of succession for the Presidenc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3154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is the leader of our Nation’s Armed forc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3759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the militar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276720" y="3465360"/>
            <a:ext cx="2206440" cy="27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the econom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3200400" y="3429000"/>
            <a:ext cx="2517840" cy="29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8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foreign polic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2417760" cy="319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16T12:53:06Z</dcterms:modified>
  <cp:revision>134</cp:revision>
  <dc:subject/>
  <dc:title>D/O: TO EXPLAIN AND IDENTIFY PROBLEMS OF ECONOMICS</dc:title>
</cp:coreProperties>
</file>